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D1D0-8FE4-4511-A9BF-B2A3038E3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core4/cor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2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gm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nes and rep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nalysi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nes and rep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2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e gm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nes and rep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ile stresses customer interaction; natural style for Berkeley - “customer” is often at the next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dbp/core3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4-&gt;cor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tology design - cor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nes and rep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mutations; 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5760-C6F5-4CC8-8982-F62F1C06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A9FA-8784-4A63-9DF0-0544EF81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AC3-4EAD-45C6-8D49-916E8AC9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277F-46B9-4FC2-A131-1A2217B9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B441-0FB8-45BF-804C-7110FCE1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3F69-835C-4255-9BE7-13AB0CC8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9F53-CB73-44FF-9565-D201A3FF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B3E-0869-49D7-9E2C-DC02A9BC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2055-F270-41E2-B574-EBFC4696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E068-1A74-47D8-9D83-4A200B0EE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D36-1A6D-4788-90AC-1CE870E7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EF7-D3B9-4BC4-8C83-D38F6D60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7DB4-EE09-4766-BBB6-007C2C9A5A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obo.sourceforge.net/relationship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yuri.lbl.gov/amigo/obd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: Bioinformatic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Gill Sans"/>
              </a:rPr>
              <a:t>CBio-Berkele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Berkeley group: G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e Ontology - Informatic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base, web portal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y editing too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y QC and integr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O-Edit (formerly DAG-Edit)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260360"/>
            <a:ext cx="7696080" cy="55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219320" y="927000"/>
            <a:ext cx="6781680" cy="5931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miGO and GO Databas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o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8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8000"/>
                </a:solidFill>
                <a:latin typeface="Gill Sans"/>
              </a:rPr>
              <a:t>Problem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large ontologies of composite terms are difficult to mana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80"/>
                </a:solidFill>
                <a:latin typeface="Gill Sans"/>
              </a:rPr>
              <a:t>Soluti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partial automation (reasoner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quires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logical defini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ow do we obtain them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80"/>
                </a:solidFill>
                <a:latin typeface="Gill Sans"/>
              </a:rPr>
              <a:t>Solution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Obo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arses logical definitions from class nam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ogical definitions can be reasoned ov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etect errors and autom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tegrates OBO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O Relations Ontolog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mon relations used across ontologies must mean the same 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is_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art_o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has_particip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O relations ontology provides precise defin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ines class-level relations in terms of their in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  <a:hlinkClick r:id="rId1"/>
              </a:rPr>
              <a:t>http://obo.sourceforge.net/relationsh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llaboration with core5, Manchester &amp;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rkeley group backg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80"/>
                </a:solidFill>
                <a:latin typeface="Gill Sans"/>
              </a:rPr>
              <a:t>Core 2 first 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8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80"/>
                </a:solidFill>
                <a:latin typeface="Gill Sans"/>
              </a:rPr>
              <a:t>what: aims, mileston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w: software lifecycle, interaction w/ other co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 progress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pen ques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400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 specific aim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im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ffff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apture and describe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ffff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concile annotation and ontology chang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ffff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ore, view and compare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ffff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 disease gen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591120" indent="-59112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rst 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types: Fly and Zebrafis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960840" indent="-51732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IV clinical trial 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1: </a:t>
            </a:r>
            <a:r>
              <a:rPr b="0" lang="en-US" sz="4400" spc="-1" strike="noStrike">
                <a:solidFill>
                  <a:srgbClr val="f0e500"/>
                </a:solidFill>
                <a:latin typeface="Gill Sans"/>
              </a:rPr>
              <a:t>Capture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and describe dat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henotype data captu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O-Edit plug-i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bine classes from multiple 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ATO, anatomical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8a4b"/>
                </a:solidFill>
                <a:latin typeface="Gill Sans"/>
              </a:rPr>
              <a:t>NLP tool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nical trial data captur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8a4b"/>
                </a:solidFill>
                <a:latin typeface="Gill Sans"/>
              </a:rPr>
              <a:t>what are the appropriate tool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1: Capture and </a:t>
            </a:r>
            <a:r>
              <a:rPr b="0" lang="en-US" sz="4400" spc="-1" strike="noStrike">
                <a:solidFill>
                  <a:srgbClr val="f0e500"/>
                </a:solidFill>
                <a:latin typeface="Gill Sans"/>
              </a:rPr>
              <a:t>describe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dat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Zebrafish, fl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aTO: Phenotype and trait ontolog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henotype ‘primitives’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ntity-Attribute-Value’ mod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henotype ontologi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etic dat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rtholog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trial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eric instance mod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what are the appropriate ontologies here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rkeley group backg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re 2 first 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: aims, mileston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w: software lifecycle, interaction w/ other co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 progress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scuss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n ontology of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attribute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attribute valu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morphology, structure, place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 status of PATO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eds work to conform to sound ontology princip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ini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rmalisation of attribu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orking with core3-cambridge (Gkoutos) and core5 (Neuhaus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anno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ntity-attribute structured annot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468a4b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8a4b"/>
                </a:solidFill>
                <a:latin typeface="Gill Sans"/>
              </a:rPr>
              <a:t>Entity term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; </a:t>
            </a:r>
            <a:r>
              <a:rPr b="0" i="1" lang="en-US" sz="2400" spc="-1" strike="noStrike">
                <a:solidFill>
                  <a:srgbClr val="800000"/>
                </a:solidFill>
                <a:latin typeface="Gill Sans"/>
              </a:rPr>
              <a:t>PATO 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brain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FBbt:00005095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fus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gut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A:0000917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dysplastic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tail fin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ventraliz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kidney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hypertrophi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468a4b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midface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800000"/>
                </a:solidFill>
                <a:latin typeface="Gill Sans"/>
              </a:rPr>
              <a:t>hypoplastic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e-composed phenotype te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mmalian Phenotype Ont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creased activated B-cell number”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PO:00003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ink fur hue”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PO:00003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0" y="2286000"/>
            <a:ext cx="2057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(Fly)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95280" y="3962520"/>
          <a:ext cx="6782040" cy="2687400"/>
        </p:xfrm>
        <a:graphic>
          <a:graphicData uri="http://schemas.openxmlformats.org/drawingml/2006/table">
            <a:tbl>
              <a:tblPr/>
              <a:tblGrid>
                <a:gridCol w="1695600"/>
                <a:gridCol w="1695600"/>
                <a:gridCol w="1695240"/>
                <a:gridCol w="1695600"/>
              </a:tblGrid>
              <a:tr h="137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ccff"/>
                          </a:solidFill>
                          <a:latin typeface="Gill Sans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ccff"/>
                          </a:solidFill>
                          <a:latin typeface="Gill San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ccff"/>
                          </a:solidFill>
                          <a:latin typeface="Gill Sans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ccff"/>
                          </a:solidFill>
                          <a:latin typeface="Gill Sans"/>
                        </a:rPr>
                        <a:t>Background/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66ccff"/>
                          </a:solidFill>
                          <a:latin typeface="Gill Sans"/>
                        </a:rPr>
                        <a:t>Environ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embry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viabil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leth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cer\GAL4[hs.PB]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dorsal cutic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ha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norm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wing vein L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ha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branche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temperature sensit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895680" y="1905120"/>
            <a:ext cx="3744000" cy="17398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e: J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lele: Jra[bZIP.Scer\UAS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lele Descrip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fects in head and dorsal cutic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er\GAL4[hs.PB] induces…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2666880"/>
            <a:ext cx="22860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38880" y="2666880"/>
            <a:ext cx="60984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2819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153280" y="2666880"/>
            <a:ext cx="30492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848720" y="281952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3048120"/>
            <a:ext cx="60984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3048120"/>
            <a:ext cx="60984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320040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153280" y="3048120"/>
            <a:ext cx="304920" cy="22860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32004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7467480" y="2285640"/>
            <a:ext cx="152640" cy="22860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07200" y="191916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Light"/>
              </a:rPr>
              <a:t>A481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486040" y="2590560"/>
            <a:ext cx="152280" cy="22860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10360" y="2286000"/>
            <a:ext cx="5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ill Sans Light"/>
              </a:rPr>
              <a:t>bZI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2666880"/>
            <a:ext cx="0" cy="2286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3048120"/>
            <a:ext cx="0" cy="2286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2666880"/>
            <a:ext cx="0" cy="2286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05920" y="3048120"/>
            <a:ext cx="0" cy="22860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Genotype-Phenotype datamode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eed to model complex genotyp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nviron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henot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-A-V is not enou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 attribut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lex 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easurements and assay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SHL 2005 Phenotype meet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2: Reconcile annotation and ontology chang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y evolution can trigger annotation chang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dentifi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ll classes and annotations will have stable identifi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res 1 and 2 to decide on identifier mod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SID UR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Track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3: </a:t>
            </a:r>
            <a:r>
              <a:rPr b="0" lang="en-US" sz="4400" spc="-1" strike="noStrike">
                <a:solidFill>
                  <a:srgbClr val="f0e500"/>
                </a:solidFill>
                <a:latin typeface="Gill Sans"/>
              </a:rPr>
              <a:t>Store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, view and compare annotations 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O: ontolog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D: data annotated using ontolog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type-phenotyp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nical trial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th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: A Database for OB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 warehou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llected from MODs and other sour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notation versio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Generic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data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Any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data typed by OBO classes can be sto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annotation data view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trial data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data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 Sans"/>
              </a:rPr>
              <a:t>Chado-complia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ntity-attribute-(value) mod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7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Key technolog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mantic Web’ database technolog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y-awa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ntologies are part of meta-mod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higher level query languag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PARQL, SeRQL, …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ool interoperabilit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rotégé-OWL, Jena, .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QL compatibil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ptionally layered on relational mod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andards? Maturity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ny implementation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esame, Kowari,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3: Store, </a:t>
            </a:r>
            <a:r>
              <a:rPr b="0" lang="en-US" sz="4400" spc="-1" strike="noStrike">
                <a:solidFill>
                  <a:srgbClr val="f0e500"/>
                </a:solidFill>
                <a:latin typeface="Gill Sans"/>
              </a:rPr>
              <a:t>view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f0e500"/>
                </a:solidFill>
                <a:latin typeface="Gill Sans"/>
              </a:rPr>
              <a:t>and compare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annotations 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rows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miGO-2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dvanced visualiz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ork with core 1 (University of Victoria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Berkeley group: genomic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rmerly BDGP (Berkeley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Drosophila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Genome Project) Informatic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me sequencing, analysis and anno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mic application develop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base develop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lyBa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eric Model Organism Databa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58000" y="3809880"/>
            <a:ext cx="2036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mparing annotat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cess vs s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gulatory process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cidification of midgut has_quality reduced r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idgut has_quality low acid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velopment vs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ing development has_quality ab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light has_quality intermit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ranularity (scal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hemical vs molecular vs cell vs tissue vs anatomical p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ntegrating anatomical ontolog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nnotations should be comparable between spe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henotype annotations are composed of anatomical ter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ultiple species-centric anatomical ontolog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Gill Sans"/>
              </a:rPr>
              <a:t>Problem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: how do we compare across speci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XSPAN (Bard et al): creating mapp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re 1: ontology mappin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im 4: Linking disease genes 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mology 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rthologous gen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omic 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NPs, sequence varia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isease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mantic similar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y integr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bol, XSPA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Linking disease to phenotyp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lationship of phenotype to diseases and disord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ssentiali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atistic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sease 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O disease ontology (Northwester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VOC disease ontology (EVOC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sease ontology workshop (core 5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vember 2006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rkeley group backg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80"/>
                </a:solidFill>
                <a:latin typeface="Gill Sans"/>
              </a:rPr>
              <a:t>Core 2 first 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: aims, mileston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8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80"/>
                </a:solidFill>
                <a:latin typeface="Gill Sans"/>
              </a:rPr>
              <a:t>how: software lifecycle, interaction w/ other co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 progress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pen ques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ftware lifecycl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oftware is developed in phas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ifferent phases require interaction with different cor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terative “Agile” methodolog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ast cyc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volve ‘customer’ (core3) at all phas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rkeley group backg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re 2 first roun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: aims, mileston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w: software lifecycle, interaction w/ other co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ff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80"/>
                </a:solidFill>
                <a:latin typeface="Gill Sans"/>
              </a:rPr>
              <a:t>Current progres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urrent progres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eeting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SHL November 2005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ontology meet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601"/>
              </a:spcBef>
              <a:buClr>
                <a:srgbClr val="ffffff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tools worksho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499"/>
              </a:spcBef>
              <a:buClr>
                <a:srgbClr val="ffffff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erkeley, UVic, Core 3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O-Edit complex class plug-i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henotype browser prototyp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enotype-Phenotype datamo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O-Edit complex class plug-i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mbinatorial composition of class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 use-case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lant anatomical structu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grating GO and OBO-Cel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deal for phenotype class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tend to make ‘phenotype’ plug-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229600" cy="57610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poll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Progres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enotype-Phenotype data model defin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ototype implement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vaulating technolog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browser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perimental branch of AmiGO cod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llows browsing and querying of combinatorial phenotype annota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perimental datase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em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  <a:hlinkClick r:id="rId1"/>
              </a:rPr>
              <a:t>http://yuri.lbl.gov/amigo/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155600"/>
            <a:ext cx="7467480" cy="57024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GBrows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19320" y="1298520"/>
            <a:ext cx="7238880" cy="55594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n-situ expression databas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Genomics applica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GadFl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alysis and annotation databa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ipeline softwa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O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utational analysis integr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G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arative Genomics Software Librar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 and SOF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Gill Sans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quenc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ill Sans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tology fo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ill Sans"/>
              </a:rPr>
              <a:t>F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atu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ill Sans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not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y for genomic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quence feature classe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mRNA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,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intron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,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UTR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,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sequence_variant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, 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quence feature rel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exon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part_of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transcrip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polypeptide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mRN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d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 organism relational database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lyBase, GMO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u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sequence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express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ma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8000"/>
                </a:solidFill>
                <a:uFillTx/>
                <a:latin typeface="Gill Sans"/>
              </a:rPr>
              <a:t>g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8000"/>
                </a:solidFill>
                <a:uFillTx/>
                <a:latin typeface="Gill Sans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8000"/>
                </a:solidFill>
                <a:uFillTx/>
                <a:latin typeface="Gill Sans"/>
              </a:rPr>
              <a:t>ontology/cv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Generic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ses ontologies for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strong typ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21:28:44Z</dcterms:created>
  <dc:creator>Chris Mungall</dc:creator>
  <dc:description/>
  <dc:language>en-US</dc:language>
  <cp:lastModifiedBy>Chris Mungall</cp:lastModifiedBy>
  <dcterms:modified xsi:type="dcterms:W3CDTF">2006-01-11T22:57:26Z</dcterms:modified>
  <cp:revision>283</cp:revision>
  <dc:subject/>
  <dc:title>NCBIO-Berkeley</dc:title>
</cp:coreProperties>
</file>